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1F11-6A9B-4DC9-8745-7FE91B599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426E-3E2F-421B-872C-83E53A56F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AC1B-768B-49ED-901D-DE9253214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0972-E9B2-4B66-B0AE-5270BE94A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1A0A-3900-40DB-9FF5-12586DD82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08ED-1F1A-4890-93D5-42E9D0875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866B-DBB5-4CA0-BBD6-C505B7ACD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66EF-D7E4-45BE-B39D-A9610BCBE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BF8C-E263-4ADB-8570-8E3186D75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3D14-B916-4EAC-AF89-E225668B3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8804-FCEA-462E-AB1E-B7B455046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24A5-F2B3-4D56-8B89-BD909E8DD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C876C-855C-4483-AA47-603A08AB83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4447" t="10861" r="6936" b="8853"/>
          <a:stretch/>
        </p:blipFill>
        <p:spPr>
          <a:xfrm>
            <a:off x="539640" y="1700280"/>
            <a:ext cx="5761080" cy="42498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732720" y="1197000"/>
            <a:ext cx="1368360" cy="85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ux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ois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tre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nq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p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u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x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ze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u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5880" y="404640"/>
            <a:ext cx="910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hich numbers can you make using these lett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215600" y="6165720"/>
            <a:ext cx="346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you make any other word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8172360" y="4724280"/>
            <a:ext cx="72252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8T21:21:47Z</dcterms:created>
  <dc:creator>Helen</dc:creator>
  <dc:description/>
  <dc:language>en-US</dc:language>
  <cp:lastModifiedBy>Helen</cp:lastModifiedBy>
  <dcterms:modified xsi:type="dcterms:W3CDTF">2010-05-18T21:38:03Z</dcterms:modified>
  <cp:revision>2</cp:revision>
  <dc:subject/>
  <dc:title>Slide 1</dc:title>
</cp:coreProperties>
</file>